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5.wmf" ContentType="image/x-wmf"/>
  <Override PartName="/ppt/media/image13.jpeg" ContentType="image/jpeg"/>
  <Override PartName="/ppt/media/image3.wmf" ContentType="image/x-wmf"/>
  <Override PartName="/ppt/media/image15.jpeg" ContentType="image/jpeg"/>
  <Override PartName="/ppt/media/image24.wmf" ContentType="image/x-wmf"/>
  <Override PartName="/ppt/media/image22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0800" y="706320"/>
            <a:ext cx="4646880" cy="348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0920" y="4415040"/>
            <a:ext cx="56070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3440" y="4417560"/>
            <a:ext cx="56052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C9BAB7-3994-42A0-912C-9CD8AC3A823A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3440" y="4417560"/>
            <a:ext cx="56052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D69DFA-AC62-44E2-BF0B-6F80B732DAD8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3440" y="4417560"/>
            <a:ext cx="56052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C5FEEB-D164-4D81-9FDE-AEF99D545DE1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3440" y="4417560"/>
            <a:ext cx="56052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CC2B84-967C-4685-8BB7-979612376145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3440" y="4417560"/>
            <a:ext cx="56052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58686D-CA7E-447B-AF75-DDBCD6AF12AE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3440" y="4417560"/>
            <a:ext cx="56052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8244D8-E7A5-4B33-B02E-30D0231D3534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3440" y="4417560"/>
            <a:ext cx="56052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87A099-8BFE-46FC-835B-F88B028F3D36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3440" y="4417560"/>
            <a:ext cx="56052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AC0A35-EA33-41F0-AA0E-EC9F6F551C4B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B93-0041-4BBB-82E3-F001AA99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679-AFAD-48A0-BE03-84FD5F71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FEB-0B1A-48B1-9716-EF046DBC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633-0BA1-4ADA-92D2-635D4B20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CBB-5326-4E83-A7B3-ED70F06A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09A-0530-4714-A55E-34529253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51C-0CAB-478E-9202-A51385F6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2C0-3318-42E4-9B17-A8C9BC5B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9ED-D02E-48B3-AA84-CC3E25D9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B7F-0568-466D-BC57-0C30AFAC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1B7-2D41-4CE6-BB91-2D2ADDBD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ED4-3C42-481C-9FE9-7F2E3CDD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C089-3BFD-43AD-BCBF-A146D107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30A2-E5F6-4349-A22D-05CE7266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8E99-30AD-45C3-9121-5BE272B4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9F57-C03F-4DE0-A11C-214E823C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E8A0-2401-4D7C-85FF-29ADDD6D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A8EA-0037-4349-8150-CD7711F7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F065-A366-4B24-9773-DBA11571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5E87-2B1F-4E53-AB98-70CDFF25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2B46-1F19-47FB-905E-79F235CE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8773-225F-45D0-B3A8-94500F74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E0B5-20D9-4AA6-8BC3-20FCD96F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C26B-7BD0-48C3-BD1A-5F340822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83DFB-8AAC-483A-9DCF-43A1C5B8D0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1D016-7B0D-434B-9655-CE97407E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8FEA0-DBC7-4318-A40D-34100271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7908E-6BFA-4B4F-8EBC-172BB49D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766DD-263C-4598-8E11-20B853EB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92F07-BB4F-421D-B7EF-4B8E2C39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1697B-BCEC-45C4-9F72-180295E7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C6A18-84C4-4F0F-8494-4B6EBA40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17D97-E911-4FA1-9F54-6D2699E7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DF3B8-4FB2-4418-B3E9-C1D01BDB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94B96-C694-4E9C-B609-37DCB784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7F49F-BC33-4E03-AC1E-A8A8AB0B97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85A3AF-595F-48FB-B561-59CA4C87C9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0B2DC-998E-4B4E-BFC3-B2DB0724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BB9DBA-5A63-4145-81F8-30ABEAE8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1782ED-727E-4462-99F8-8E4BB339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47ADDD-B23F-4623-9941-4D89BDA4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A9634C-B57E-42CA-BC08-9701A80A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F14687-42F2-4018-9812-955700EA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347B79-693E-4D51-8620-C60ED49B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982E2-526A-4377-B873-26DA8BC8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EBCA38-9681-437F-9E16-BDE338C8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8205AF-8572-45D2-940D-268397EA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11816D-9F10-47A2-A784-13F5DAA5F3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E03C5-583E-452B-9C9E-43E4636DA2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1646A-E1E8-4DFE-84A5-24A3C8ED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0F8DC-BE7D-4296-960C-1ACCF689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1A4BB-E22C-4881-A6E7-2066681F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6DD8E-84D6-4080-9A5C-CC1A54A0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B7EF-B47A-473E-AB15-996133F0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4EB3-0E22-43C3-BCFA-FF9CAD7C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4C026-19ED-43F8-BCA6-91DAA092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97D64-C6BE-4E64-AAAC-B12804BB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DCCE3-B2FD-4D13-8967-7CA4CBFC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EC6A1-AA1B-4820-9642-C77E4CA0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DAAD-4E54-4EFE-93DC-7721B90625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8DC5-CF34-46A6-ABD9-896085BB5292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0303-3245-4069-8876-D1C0D5309619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64F4-ECFF-44C9-B14A-B1C82B7AEE2D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14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0"/>
          </p:nvPr>
        </p:nvSpPr>
        <p:spPr>
          <a:xfrm>
            <a:off x="3505320" y="6165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6A92-C886-4894-B114-BB87D284FC8A}" type="slidenum">
              <a:rPr b="1" i="1" lang="es-MX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i="1" lang="es-MX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3634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E63A-3880-40F1-BE34-BE1255A7A244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2700360" y="5589720"/>
            <a:ext cx="4249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5f5f5f"/>
                </a:solidFill>
                <a:latin typeface="Arial Rounded MT Bold"/>
                <a:ea typeface="Arial Unicode MS"/>
              </a:rPr>
              <a:t>Abril de 2018</a:t>
            </a:r>
            <a:endParaRPr b="1" i="1" lang="en-US" sz="22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8560" y="1341000"/>
            <a:ext cx="705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 Rounded MT Bold"/>
              </a:rPr>
              <a:t>Encuesta en la Ciudad de México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243" name="4 Imagen" descr="climadf.jpg"/>
          <p:cNvPicPr/>
          <p:nvPr/>
        </p:nvPicPr>
        <p:blipFill>
          <a:blip r:embed="rId1"/>
          <a:stretch/>
        </p:blipFill>
        <p:spPr>
          <a:xfrm>
            <a:off x="2411280" y="2492280"/>
            <a:ext cx="43196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611280" y="69228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 Rounded MT Bold"/>
              </a:rPr>
              <a:t>Entre Claudia Sheinbaum, Alejandra Barrales y Mikel Arriola </a:t>
            </a:r>
            <a:r>
              <a:rPr b="0" lang="es-ES_tradnl" sz="1600" spc="-1" strike="noStrike">
                <a:solidFill>
                  <a:srgbClr val="000000"/>
                </a:solidFill>
                <a:latin typeface="Arial Rounded MT Bold"/>
              </a:rPr>
              <a:t>¿quién cree que …?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724360" y="1268280"/>
            <a:ext cx="53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Arial Rounded MT Bold"/>
              </a:rPr>
              <a:t>%</a:t>
            </a: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  <p:graphicFrame>
        <p:nvGraphicFramePr>
          <p:cNvPr id="298" name="Object 2"/>
          <p:cNvGraphicFramePr/>
          <p:nvPr/>
        </p:nvGraphicFramePr>
        <p:xfrm>
          <a:off x="1116000" y="1527120"/>
          <a:ext cx="7315200" cy="49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27120"/>
                    <a:ext cx="731520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1341000"/>
            <a:ext cx="705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 Rounded MT Bold"/>
              </a:rPr>
              <a:t>Perfil de entrevistados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395280" y="83664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ndara"/>
              </a:rPr>
              <a:t>Sexo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466560" y="389268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ndara"/>
              </a:rPr>
              <a:t>Edad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graphicFrame>
        <p:nvGraphicFramePr>
          <p:cNvPr id="303" name="Object 11"/>
          <p:cNvGraphicFramePr/>
          <p:nvPr/>
        </p:nvGraphicFramePr>
        <p:xfrm>
          <a:off x="34920" y="1025640"/>
          <a:ext cx="5073480" cy="24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025640"/>
                    <a:ext cx="507348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13"/>
          <p:cNvGraphicFramePr/>
          <p:nvPr/>
        </p:nvGraphicFramePr>
        <p:xfrm>
          <a:off x="108000" y="4076640"/>
          <a:ext cx="5073480" cy="22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076640"/>
                    <a:ext cx="507348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2"/>
          <p:cNvSpPr/>
          <p:nvPr/>
        </p:nvSpPr>
        <p:spPr>
          <a:xfrm>
            <a:off x="3029040" y="1025640"/>
            <a:ext cx="5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Arial Rounded MT Bold"/>
              </a:rPr>
              <a:t>%</a:t>
            </a: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3100320" y="4046400"/>
            <a:ext cx="5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Arial Rounded MT Bold"/>
              </a:rPr>
              <a:t>%</a:t>
            </a: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  <p:graphicFrame>
        <p:nvGraphicFramePr>
          <p:cNvPr id="309" name="Object 2"/>
          <p:cNvGraphicFramePr/>
          <p:nvPr/>
        </p:nvGraphicFramePr>
        <p:xfrm>
          <a:off x="3724200" y="1193760"/>
          <a:ext cx="4951440" cy="249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24200" y="1193760"/>
                    <a:ext cx="4951440" cy="24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10"/>
          <p:cNvGraphicFramePr/>
          <p:nvPr/>
        </p:nvGraphicFramePr>
        <p:xfrm>
          <a:off x="3708360" y="4172040"/>
          <a:ext cx="4951440" cy="249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172040"/>
                    <a:ext cx="495144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95280" y="765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ndara"/>
              </a:rPr>
              <a:t>Nivel educativo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2843280" y="369900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ndara"/>
              </a:rPr>
              <a:t>Ocupación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graphicFrame>
        <p:nvGraphicFramePr>
          <p:cNvPr id="315" name="Object 6"/>
          <p:cNvGraphicFramePr/>
          <p:nvPr/>
        </p:nvGraphicFramePr>
        <p:xfrm>
          <a:off x="250920" y="981000"/>
          <a:ext cx="484020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48402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8"/>
          <p:cNvGraphicFramePr/>
          <p:nvPr/>
        </p:nvGraphicFramePr>
        <p:xfrm>
          <a:off x="-36360" y="3933720"/>
          <a:ext cx="3743280" cy="25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6360" y="3933720"/>
                    <a:ext cx="3743280" cy="25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2"/>
          <p:cNvSpPr/>
          <p:nvPr/>
        </p:nvSpPr>
        <p:spPr>
          <a:xfrm>
            <a:off x="2843280" y="880920"/>
            <a:ext cx="5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Arial Rounded MT Bold"/>
              </a:rPr>
              <a:t>%</a:t>
            </a: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3017880" y="3645000"/>
            <a:ext cx="5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Arial Rounded MT Bold"/>
              </a:rPr>
              <a:t>%</a:t>
            </a: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  <p:graphicFrame>
        <p:nvGraphicFramePr>
          <p:cNvPr id="321" name="Object 2"/>
          <p:cNvGraphicFramePr/>
          <p:nvPr/>
        </p:nvGraphicFramePr>
        <p:xfrm>
          <a:off x="3724200" y="1219320"/>
          <a:ext cx="4951440" cy="249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24200" y="1219320"/>
                    <a:ext cx="495144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11"/>
          <p:cNvGraphicFramePr/>
          <p:nvPr/>
        </p:nvGraphicFramePr>
        <p:xfrm>
          <a:off x="3713040" y="4103640"/>
          <a:ext cx="4951440" cy="271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13040" y="4103640"/>
                    <a:ext cx="495144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971640" y="404640"/>
            <a:ext cx="68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andara"/>
              </a:rPr>
              <a:t>Diseño metodológico</a:t>
            </a:r>
            <a:endParaRPr b="1" i="1" lang="en-US" sz="30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969840" y="1125360"/>
            <a:ext cx="7705800" cy="61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 Rounded MT Bold"/>
              </a:rPr>
              <a:t>Se aplicaron 720 entrevistas a personas de 18 años y más en la Ciudad de México.</a:t>
            </a:r>
            <a:endParaRPr b="1" i="1" lang="en-US" sz="1800" spc="-1" strike="noStrike">
              <a:solidFill>
                <a:srgbClr val="000000"/>
              </a:solidFill>
              <a:latin typeface="NimbusSan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NimbusSan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 Rounded MT Bold"/>
              </a:rPr>
              <a:t>La representatividad de la encuesta es a nivel estatal. Se presentan estimaciones ponderadas (expandidas al Listado Nominal con corte al 12 de Enero de 2018) y calibradas por sociodemográficos de acuerdo a la Encuesta Intercensal INEGI 2015 (actualizada).</a:t>
            </a:r>
            <a:endParaRPr b="1" i="1" lang="en-US" sz="1800" spc="-1" strike="noStrike">
              <a:solidFill>
                <a:srgbClr val="000000"/>
              </a:solidFill>
              <a:latin typeface="NimbusSan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NimbusSan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Rounded MT Bold"/>
              </a:rPr>
              <a:t>La fecha de levantamiento fue del 8 al 10 de abril de 2018.</a:t>
            </a:r>
            <a:endParaRPr b="1" i="1" lang="en-US" sz="1800" spc="-1" strike="noStrike">
              <a:solidFill>
                <a:srgbClr val="000000"/>
              </a:solidFill>
              <a:latin typeface="NimbusSan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NimbusSan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Rounded MT Bold"/>
              </a:rPr>
              <a:t>El error de estimación muestral (esto es, considerando el diseño muestral y el efecto por conglomerar),calculado con un nivel de confianza de 95 por ciento, a nivel municipal es de </a:t>
            </a:r>
            <a:r>
              <a:rPr b="0" lang="es-ES" sz="1800" spc="-1" strike="noStrike">
                <a:solidFill>
                  <a:srgbClr val="000000"/>
                </a:solidFill>
                <a:latin typeface="Arial Rounded MT Bold"/>
              </a:rPr>
              <a:t>±</a:t>
            </a:r>
            <a:r>
              <a:rPr b="0" lang="es-ES_tradnl" sz="1800" spc="-1" strike="noStrike">
                <a:solidFill>
                  <a:srgbClr val="000000"/>
                </a:solidFill>
                <a:latin typeface="Arial Rounded MT Bold"/>
              </a:rPr>
              <a:t> 3.7 por</a:t>
            </a:r>
            <a:r>
              <a:rPr b="0" lang="es-ES_tradnl" sz="1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Rounded MT Bold"/>
              </a:rPr>
              <a:t>ciento.</a:t>
            </a:r>
            <a:endParaRPr b="1" i="1" lang="en-US" sz="1800" spc="-1" strike="noStrike">
              <a:solidFill>
                <a:srgbClr val="000000"/>
              </a:solidFill>
              <a:latin typeface="NimbusSan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NimbusSan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 Rounded MT Bold"/>
              </a:rPr>
              <a:t>Se establecieron como unidades de muestreo las secciones electorales conforme a criterios del INE.</a:t>
            </a:r>
            <a:endParaRPr b="1" i="1" lang="en-US" sz="1800" spc="-1" strike="noStrike">
              <a:solidFill>
                <a:srgbClr val="000000"/>
              </a:solidFill>
              <a:latin typeface="NimbusSan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NimbusSan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Rounded MT Bold"/>
              </a:rPr>
              <a:t>Se registraron 547 rechazos a la entrevista.</a:t>
            </a:r>
            <a:endParaRPr b="1" i="1" lang="en-US" sz="1800" spc="-1" strike="noStrike">
              <a:solidFill>
                <a:srgbClr val="000000"/>
              </a:solidFill>
              <a:latin typeface="NimbusSan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NimbusSan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NimbusSan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2700360" y="620640"/>
            <a:ext cx="4249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5f5f5f"/>
                </a:solidFill>
                <a:latin typeface="Arial Rounded MT Bold"/>
                <a:ea typeface="Arial Unicode MS"/>
              </a:rPr>
              <a:t>Metodología</a:t>
            </a:r>
            <a:endParaRPr b="1" i="1" lang="en-US" sz="22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1341000"/>
            <a:ext cx="705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 Rounded MT Bold"/>
              </a:rPr>
              <a:t>Preferencia electoral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611280" y="69228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Rounded MT Bold"/>
              </a:rPr>
              <a:t>Intención de voto para Jefe de Gobierno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692360" y="1341360"/>
            <a:ext cx="22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 Rounded MT Bold"/>
              </a:rPr>
              <a:t>Preferencia bruta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5580000" y="1362240"/>
            <a:ext cx="25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 Rounded MT Bold"/>
              </a:rPr>
              <a:t>Preferencia efectiva*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395280" y="2130480"/>
          <a:ext cx="4370400" cy="41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30480"/>
                    <a:ext cx="437040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9"/>
          <p:cNvGraphicFramePr/>
          <p:nvPr/>
        </p:nvGraphicFramePr>
        <p:xfrm>
          <a:off x="4906800" y="1917720"/>
          <a:ext cx="3902400" cy="434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6800" y="1917720"/>
                    <a:ext cx="3902400" cy="43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2"/>
          <p:cNvSpPr/>
          <p:nvPr/>
        </p:nvSpPr>
        <p:spPr>
          <a:xfrm>
            <a:off x="8358120" y="1557360"/>
            <a:ext cx="5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Arial Rounded MT Bold"/>
              </a:rPr>
              <a:t>%</a:t>
            </a: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3780000" y="1628640"/>
            <a:ext cx="5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Arial Rounded MT Bold"/>
              </a:rPr>
              <a:t>%</a:t>
            </a: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57" name="4 CuadroTexto"/>
          <p:cNvSpPr/>
          <p:nvPr/>
        </p:nvSpPr>
        <p:spPr>
          <a:xfrm>
            <a:off x="4861080" y="6597720"/>
            <a:ext cx="41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Rounded MT Bold"/>
              </a:rPr>
              <a:t>*Se recalcula a 100% sin considerar “Ns/Nc”.</a:t>
            </a:r>
            <a:endParaRPr b="1" i="1" lang="en-US" sz="10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11280" y="69228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Rounded MT Bold"/>
              </a:rPr>
              <a:t>Intención de voto para Presidente de la República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1692360" y="1341360"/>
            <a:ext cx="22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 Rounded MT Bold"/>
              </a:rPr>
              <a:t>Preferencia bruta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5580000" y="1362240"/>
            <a:ext cx="25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 Rounded MT Bold"/>
              </a:rPr>
              <a:t>Preferencia efectiva*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graphicFrame>
        <p:nvGraphicFramePr>
          <p:cNvPr id="261" name="Object 2"/>
          <p:cNvGraphicFramePr/>
          <p:nvPr/>
        </p:nvGraphicFramePr>
        <p:xfrm>
          <a:off x="395280" y="2130480"/>
          <a:ext cx="4370400" cy="41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30480"/>
                    <a:ext cx="437040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9"/>
          <p:cNvGraphicFramePr/>
          <p:nvPr/>
        </p:nvGraphicFramePr>
        <p:xfrm>
          <a:off x="4438800" y="1917720"/>
          <a:ext cx="4392360" cy="43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8800" y="1917720"/>
                    <a:ext cx="439236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2"/>
          <p:cNvSpPr/>
          <p:nvPr/>
        </p:nvSpPr>
        <p:spPr>
          <a:xfrm>
            <a:off x="8358120" y="1557360"/>
            <a:ext cx="5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Arial Rounded MT Bold"/>
              </a:rPr>
              <a:t>%</a:t>
            </a: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3780000" y="1628640"/>
            <a:ext cx="5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Arial Rounded MT Bold"/>
              </a:rPr>
              <a:t>%</a:t>
            </a: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67" name="4 CuadroTexto"/>
          <p:cNvSpPr/>
          <p:nvPr/>
        </p:nvSpPr>
        <p:spPr>
          <a:xfrm>
            <a:off x="4861080" y="6597720"/>
            <a:ext cx="41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Rounded MT Bold"/>
              </a:rPr>
              <a:t>*Se recalcula a 100% sin considerar “Ns/Nc”.</a:t>
            </a:r>
            <a:endParaRPr b="1" i="1" lang="en-US" sz="10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611280" y="692280"/>
            <a:ext cx="80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Rounded MT Bold"/>
              </a:rPr>
              <a:t>Independientemente de por quién haya votado en el pasado, ¿con cuál partido político se identifica usted más?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graphicFrame>
        <p:nvGraphicFramePr>
          <p:cNvPr id="269" name="Object 2"/>
          <p:cNvGraphicFramePr/>
          <p:nvPr/>
        </p:nvGraphicFramePr>
        <p:xfrm>
          <a:off x="2050920" y="1606680"/>
          <a:ext cx="495144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606680"/>
                    <a:ext cx="495144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Rectangle 2"/>
          <p:cNvSpPr/>
          <p:nvPr/>
        </p:nvSpPr>
        <p:spPr>
          <a:xfrm>
            <a:off x="7308720" y="1125360"/>
            <a:ext cx="5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Arial Rounded MT Bold"/>
              </a:rPr>
              <a:t>%</a:t>
            </a: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611280" y="692280"/>
            <a:ext cx="80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Rounded MT Bold"/>
              </a:rPr>
              <a:t>En una escala del 1 al 10, ¿qué tan seguro está usted de ir a votar en las próximas elecciones?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7853400" y="1268280"/>
            <a:ext cx="5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Arial Rounded MT Bold"/>
              </a:rPr>
              <a:t>%</a:t>
            </a: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1042920" y="1341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404040"/>
                </a:solidFill>
                <a:latin typeface="Arial Rounded MT Bold"/>
              </a:rPr>
              <a:t>Promedio: 8.2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612720" y="1700280"/>
          <a:ext cx="7974000" cy="27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700280"/>
                    <a:ext cx="7974000" cy="27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6 Cerrar llave"/>
          <p:cNvSpPr/>
          <p:nvPr/>
        </p:nvSpPr>
        <p:spPr>
          <a:xfrm rot="16200000">
            <a:off x="5977080" y="-134640"/>
            <a:ext cx="503280" cy="3456000"/>
          </a:xfrm>
          <a:custGeom>
            <a:avLst/>
            <a:gdLst>
              <a:gd name="textAreaLeft" fmla="*/ 0 w 503280"/>
              <a:gd name="textAreaRight" fmla="*/ 181800 w 503280"/>
              <a:gd name="textAreaTop" fmla="*/ 28440 h 3456000"/>
              <a:gd name="textAreaBottom" fmla="*/ 342756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5"/>
                  <a:pt x="10800" y="570"/>
                </a:cubicBezTo>
                <a:lnTo>
                  <a:pt x="10800" y="10169"/>
                </a:lnTo>
                <a:cubicBezTo>
                  <a:pt x="10800" y="10454"/>
                  <a:pt x="16200" y="10739"/>
                  <a:pt x="21600" y="10739"/>
                </a:cubicBezTo>
                <a:cubicBezTo>
                  <a:pt x="16200" y="10739"/>
                  <a:pt x="10800" y="11024"/>
                  <a:pt x="10800" y="11309"/>
                </a:cubicBezTo>
                <a:lnTo>
                  <a:pt x="10800" y="21030"/>
                </a:lnTo>
                <a:cubicBezTo>
                  <a:pt x="10800" y="213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6012000" y="1052640"/>
            <a:ext cx="5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404040"/>
                </a:solidFill>
                <a:latin typeface="Arial Rounded MT Bold"/>
              </a:rPr>
              <a:t>78%</a:t>
            </a: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  <p:graphicFrame>
        <p:nvGraphicFramePr>
          <p:cNvPr id="279" name="Object 7"/>
          <p:cNvGraphicFramePr/>
          <p:nvPr/>
        </p:nvGraphicFramePr>
        <p:xfrm>
          <a:off x="828720" y="4308480"/>
          <a:ext cx="7974000" cy="27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8720" y="4308480"/>
                    <a:ext cx="7974000" cy="27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Rectangle 2"/>
          <p:cNvSpPr/>
          <p:nvPr/>
        </p:nvSpPr>
        <p:spPr>
          <a:xfrm>
            <a:off x="2987640" y="4211640"/>
            <a:ext cx="388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404040"/>
                </a:solidFill>
                <a:latin typeface="Arial Rounded MT Bold"/>
              </a:rPr>
              <a:t>Intención de voto entre el 78% seguro de ir a votar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341000"/>
            <a:ext cx="705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 Rounded MT Bold"/>
              </a:rPr>
              <a:t>Candidatos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611280" y="69228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 Rounded MT Bold"/>
              </a:rPr>
              <a:t>¿Por favor dígame qué opinión tiene de…?</a:t>
            </a:r>
            <a:endParaRPr b="1" i="1" lang="en-US" sz="1600" spc="-1" strike="noStrike">
              <a:solidFill>
                <a:srgbClr val="000000"/>
              </a:solidFill>
              <a:latin typeface="NimbusSanT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352440" y="1182600"/>
          <a:ext cx="731520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182600"/>
                    <a:ext cx="731520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"/>
          <p:cNvSpPr/>
          <p:nvPr/>
        </p:nvSpPr>
        <p:spPr>
          <a:xfrm>
            <a:off x="6053040" y="981000"/>
            <a:ext cx="5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Arial Rounded MT Bold"/>
              </a:rPr>
              <a:t>%</a:t>
            </a: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NimbusSanT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6875640" y="1268280"/>
          <a:ext cx="2052360" cy="4824720"/>
        </p:xfrm>
        <a:graphic>
          <a:graphicData uri="http://schemas.openxmlformats.org/drawingml/2006/table">
            <a:tbl>
              <a:tblPr/>
              <a:tblGrid>
                <a:gridCol w="685800"/>
                <a:gridCol w="684000"/>
                <a:gridCol w="682560"/>
              </a:tblGrid>
              <a:tr h="716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14b408"/>
                          </a:solidFill>
                          <a:latin typeface="Arial"/>
                        </a:rPr>
                        <a:t>1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14b408"/>
                          </a:solidFill>
                          <a:latin typeface="Arial"/>
                        </a:rPr>
                        <a:t>2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14b408"/>
                          </a:solidFill>
                          <a:latin typeface="Arial"/>
                        </a:rPr>
                        <a:t>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14b408"/>
                          </a:solidFill>
                          <a:latin typeface="Arial"/>
                        </a:rPr>
                        <a:t>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14b408"/>
                          </a:solidFill>
                          <a:latin typeface="Arial"/>
                        </a:rPr>
                        <a:t>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14b408"/>
                          </a:solidFill>
                          <a:latin typeface="Arial"/>
                        </a:rPr>
                        <a:t>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14b408"/>
                          </a:solidFill>
                          <a:latin typeface="Arial"/>
                        </a:rPr>
                        <a:t>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NimbusSanT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5 CuadroTexto"/>
          <p:cNvSpPr/>
          <p:nvPr/>
        </p:nvSpPr>
        <p:spPr>
          <a:xfrm>
            <a:off x="6553080" y="981000"/>
            <a:ext cx="25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Arial"/>
              </a:rPr>
              <a:t>Conocimiento   </a:t>
            </a:r>
            <a:r>
              <a:rPr b="1" i="1" lang="es-MX" sz="1000" spc="-1" strike="noStrike">
                <a:solidFill>
                  <a:srgbClr val="14b408"/>
                </a:solidFill>
                <a:latin typeface="Arial"/>
              </a:rPr>
              <a:t>Buena</a:t>
            </a:r>
            <a:r>
              <a:rPr b="1" i="1" lang="es-MX" sz="1000" spc="-1" strike="noStrike">
                <a:solidFill>
                  <a:srgbClr val="0f8406"/>
                </a:solidFill>
                <a:latin typeface="Arial"/>
              </a:rPr>
              <a:t>   </a:t>
            </a:r>
            <a:r>
              <a:rPr b="1" i="1" lang="es-MX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MX" sz="1000" spc="-1" strike="noStrike">
                <a:solidFill>
                  <a:srgbClr val="ff0000"/>
                </a:solidFill>
                <a:latin typeface="Arial"/>
              </a:rPr>
              <a:t>Mala</a:t>
            </a:r>
            <a:endParaRPr b="1" i="1" lang="en-US" sz="1000" spc="-1" strike="noStrike">
              <a:solidFill>
                <a:srgbClr val="000000"/>
              </a:solidFill>
              <a:latin typeface="NimbusSanT"/>
            </a:endParaRPr>
          </a:p>
        </p:txBody>
      </p:sp>
      <p:pic>
        <p:nvPicPr>
          <p:cNvPr id="289" name="6 Imagen" descr="Barrales.jpg"/>
          <p:cNvPicPr/>
          <p:nvPr/>
        </p:nvPicPr>
        <p:blipFill>
          <a:blip r:embed="rId3"/>
          <a:stretch/>
        </p:blipFill>
        <p:spPr>
          <a:xfrm>
            <a:off x="6257880" y="1341360"/>
            <a:ext cx="546120" cy="584280"/>
          </a:xfrm>
          <a:prstGeom prst="rect">
            <a:avLst/>
          </a:prstGeom>
          <a:ln w="0">
            <a:noFill/>
          </a:ln>
        </p:spPr>
      </p:pic>
      <p:pic>
        <p:nvPicPr>
          <p:cNvPr id="290" name="7 Imagen" descr="Sheinbaum.jpg"/>
          <p:cNvPicPr/>
          <p:nvPr/>
        </p:nvPicPr>
        <p:blipFill>
          <a:blip r:embed="rId4"/>
          <a:stretch/>
        </p:blipFill>
        <p:spPr>
          <a:xfrm>
            <a:off x="6257880" y="1916280"/>
            <a:ext cx="546120" cy="761760"/>
          </a:xfrm>
          <a:prstGeom prst="rect">
            <a:avLst/>
          </a:prstGeom>
          <a:ln w="0">
            <a:noFill/>
          </a:ln>
        </p:spPr>
      </p:pic>
      <p:pic>
        <p:nvPicPr>
          <p:cNvPr id="291" name="8 Imagen" descr="boy.jpg"/>
          <p:cNvPicPr/>
          <p:nvPr/>
        </p:nvPicPr>
        <p:blipFill>
          <a:blip r:embed="rId5"/>
          <a:stretch/>
        </p:blipFill>
        <p:spPr>
          <a:xfrm>
            <a:off x="6227640" y="472428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292" name="9 Imagen" descr="carpinteyro.jpg"/>
          <p:cNvPicPr/>
          <p:nvPr/>
        </p:nvPicPr>
        <p:blipFill>
          <a:blip r:embed="rId6"/>
          <a:stretch/>
        </p:blipFill>
        <p:spPr>
          <a:xfrm>
            <a:off x="6227640" y="3357720"/>
            <a:ext cx="546120" cy="634680"/>
          </a:xfrm>
          <a:prstGeom prst="rect">
            <a:avLst/>
          </a:prstGeom>
          <a:ln w="0">
            <a:noFill/>
          </a:ln>
        </p:spPr>
      </p:pic>
      <p:pic>
        <p:nvPicPr>
          <p:cNvPr id="293" name="10 Imagen" descr="osornio.jpg"/>
          <p:cNvPicPr/>
          <p:nvPr/>
        </p:nvPicPr>
        <p:blipFill>
          <a:blip r:embed="rId7"/>
          <a:stretch/>
        </p:blipFill>
        <p:spPr>
          <a:xfrm>
            <a:off x="6227640" y="5373720"/>
            <a:ext cx="546120" cy="711000"/>
          </a:xfrm>
          <a:prstGeom prst="rect">
            <a:avLst/>
          </a:prstGeom>
          <a:ln w="0">
            <a:noFill/>
          </a:ln>
        </p:spPr>
      </p:pic>
      <p:pic>
        <p:nvPicPr>
          <p:cNvPr id="294" name="11 Imagen" descr="Arriola.jpg"/>
          <p:cNvPicPr/>
          <p:nvPr/>
        </p:nvPicPr>
        <p:blipFill>
          <a:blip r:embed="rId8"/>
          <a:stretch/>
        </p:blipFill>
        <p:spPr>
          <a:xfrm>
            <a:off x="6257880" y="2637000"/>
            <a:ext cx="546120" cy="736560"/>
          </a:xfrm>
          <a:prstGeom prst="rect">
            <a:avLst/>
          </a:prstGeom>
          <a:ln w="0">
            <a:noFill/>
          </a:ln>
        </p:spPr>
      </p:pic>
      <p:pic>
        <p:nvPicPr>
          <p:cNvPr id="295" name="13 Imagen" descr="rascon.jpg"/>
          <p:cNvPicPr/>
          <p:nvPr/>
        </p:nvPicPr>
        <p:blipFill>
          <a:blip r:embed="rId9"/>
          <a:stretch/>
        </p:blipFill>
        <p:spPr>
          <a:xfrm>
            <a:off x="6227640" y="4017960"/>
            <a:ext cx="5461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8T19:03:09Z</dcterms:created>
  <dc:creator>EHC</dc:creator>
  <dc:description/>
  <dc:language>en-US</dc:language>
  <cp:lastModifiedBy>CS390T</cp:lastModifiedBy>
  <dcterms:modified xsi:type="dcterms:W3CDTF">2018-04-17T23:39:19Z</dcterms:modified>
  <cp:revision>11552</cp:revision>
  <dc:subject/>
  <dc:title>Diapositiva 1</dc:title>
</cp:coreProperties>
</file>